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70BE-0310-468D-B39A-35DD1147F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A309-5A32-44C2-8717-F3B7BA2D1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73C0-75AC-4847-A0BF-E5B4E64C1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6134-BDC8-49B4-95C5-4362AF8ED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9BD0-9A63-4792-9FB4-3181931E3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35F1-1F5D-479E-BDBC-AB37C6691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BE59-022F-4DD0-AFEE-F67BD035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4A9F-08D0-44F5-A12D-993B7AC5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45ED-24DA-4901-9558-30BE5937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A2A2-580C-4C56-8F10-EE9C791F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65CB-A480-4592-86AB-37E8BACE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BF4-4F05-4560-B4ED-3598B694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E61-C403-41EA-904F-B88F46C4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8AB-59CF-4F7A-A9F9-5F8A52D8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29D4-464C-4A99-B12B-B9E827BF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DBB-5077-4885-A6BD-563D2E30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B2BE-A4D1-481D-A6EE-7AD7A5D8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A88-8BF3-4919-8F82-2DE0A183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16EF-B4D0-4F77-99DF-B28263297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00200" y="0"/>
            <a:ext cx="5181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ne Fran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048120" y="6248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Bailey Jacob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annefrank.jpg"/>
          <p:cNvPicPr/>
          <p:nvPr/>
        </p:nvPicPr>
        <p:blipFill>
          <a:blip r:embed="rId1"/>
          <a:stretch/>
        </p:blipFill>
        <p:spPr>
          <a:xfrm>
            <a:off x="2209680" y="2590920"/>
            <a:ext cx="348624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914400" y="2666880"/>
            <a:ext cx="5105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ou will be going on a journey with Anne Frank. You might find out hard it was to be keeping such a big secret from the rest of the world. Well what are you waiting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lets find out mo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2286000" y="304920"/>
            <a:ext cx="4876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34 0.46921 C -0.24375 0.47268 -0.23125 0.48148 -0.21754 0.48866 C -0.204 0.48796 -0.18976 0.49051 -0.17674 0.48518 C -0.15139 0.475 -0.12552 0.45162 -0.10052 0.44467 C -0.08924 0.43472 -0.0974 0.41296 -0.09914 0.39745 C -0.1 0.38032 -0.09931 0.3544 -0.10573 0.33773 C -0.11164 0.32245 -0.10799 0.33518 -0.11233 0.32199 C -0.11563 0.31227 -0.11841 0.30324 -0.12414 0.2956 C -0.12674 0.28588 -0.13368 0.28495 -0.13993 0.27986 C -0.15052 0.2713 -0.15938 0.26574 -0.17153 0.26227 C -0.175 0.26342 -0.18125 0.26111 -0.18212 0.26574 C -0.18438 0.27708 -0.18368 0.30787 -0.17674 0.32199 C -0.1757 0.32986 -0.17344 0.33565 -0.17153 0.34305 C -0.17414 0.35185 -0.17604 0.35694 -0.18212 0.36227 C -0.18368 0.3706 -0.18664 0.37893 -0.19132 0.38518 C -0.19254 0.39375 -0.19236 0.39977 -0.19914 0.40255 C -0.1941 0.4044 -0.18959 0.40741 -0.18473 0.40972 C -0.18368 0.41157 -0.179 0.41829 -0.17934 0.42199 C -0.18039 0.43287 -0.18768 0.44143 -0.19514 0.44467 C -0.20382 0.45555 -0.21754 0.44768 -0.22813 0.44467 C -0.23351 0.44005 -0.2349 0.43935 -0.24132 0.4412 C -0.24341 0.44421 -0.24653 0.4463 -0.24792 0.45 C -0.25104 0.45833 -0.24653 0.46042 -0.25434 0.46412 C -0.25747 0.46805 -0.25625 0.46643 -0.25834 0.46921 Z">
                                      <p:cBhvr>
                                        <p:cTn id="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e was born in Frankfurt Germ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e was 15 when she 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e had a sister named Marg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e died at Bergen Bel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er parents names were Otto and Edi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e was in hiding for two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er dad published the 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e knew  that it would be hard to keep such a big secret from the rest of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219320" y="2286000"/>
            <a:ext cx="5638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is open all year round. Are price is free are diet is low fat. Water can only be used in the bathroom ( sorry no baths.) They used a tin tub after 9:00 A.M. to wash. They can wash in the down stairs lavatory, kitchen, front or privet office. At 6:00 P.M. they listen to a radio. They have to sleep at 10:00  P.M – 7:30 A.M (10:15 on Sundays ) Whisper at all times and no German. Anne and Margot learn English, history, and math each day. They eat breakfast at 9:00 A.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752480" y="457200"/>
            <a:ext cx="5867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Sylfaen"/>
              </a:rPr>
              <a:t>Guid to the seceret Anne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Sylfaen"/>
              <a:ea typeface="Sylfae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icture from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www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formation from Anne Frank By Susanna Davidson and The Dairy of Anne F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3276720" y="457200"/>
            <a:ext cx="3657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redi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23:08:45Z</dcterms:created>
  <dc:creator>Jason Jacobson</dc:creator>
  <dc:description/>
  <dc:language>en-US</dc:language>
  <cp:lastModifiedBy>nauczyciel005n</cp:lastModifiedBy>
  <dcterms:modified xsi:type="dcterms:W3CDTF">2009-01-15T12:26:31Z</dcterms:modified>
  <cp:revision>8</cp:revision>
  <dc:subject/>
  <dc:title>Slide 1</dc:title>
</cp:coreProperties>
</file>